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080625" cy="7199313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840D-9B68-4E1C-8DC0-22D83DFF0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2F10-C254-4623-8FC7-FB20E777D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BF43-80DC-4C77-BD64-2BB9C1A0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9873-A798-4D53-BB8F-2B5825D13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2888-26E8-4846-91D2-9F9D69D13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7228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39840" y="148284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72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7228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39840" y="4070880"/>
            <a:ext cx="292104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8F28-F620-4011-9959-E3C9A8D77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ABF2-132A-40E6-850D-656DBBEE3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7864-AC9B-4DD5-B876-C60DF438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720" y="122040"/>
            <a:ext cx="9072720" cy="45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B5AE-923A-4FD4-9752-88B0020A9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6656-F6F2-4284-B568-864683625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3760" y="407088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C3B-AB2B-4930-8F4F-B2E8E1231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3760" y="1482840"/>
            <a:ext cx="442728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4070880"/>
            <a:ext cx="9072720" cy="23630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A2EB-A90F-46C3-B5FB-9463BE04E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122040"/>
            <a:ext cx="9072720" cy="982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48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5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75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3" marL="1728720" indent="-247680"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4" marL="2222640" indent="-247680">
              <a:spcBef>
                <a:spcPts val="751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5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6" marL="2222640" indent="-2476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1104840"/>
            <a:ext cx="890424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4103280" y="6719400"/>
            <a:ext cx="2352600" cy="481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lang="fr-FR" sz="1100" spc="-1" strike="noStrike">
                <a:solidFill>
                  <a:srgbClr val="0000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FE954FF-C8DD-430F-8B1B-9C8209408DD9}" type="slidenum">
              <a:rPr b="0" lang="fr-FR" sz="1100" spc="-1" strike="noStrike">
                <a:solidFill>
                  <a:srgbClr val="000099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8920" y="1007640"/>
            <a:ext cx="856908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6300" spc="-1" strike="noStrike">
                <a:solidFill>
                  <a:srgbClr val="0066ff"/>
                </a:solidFill>
                <a:latin typeface="Comic Sans MS"/>
              </a:rPr>
              <a:t>Click to edit the title text format</a:t>
            </a:r>
            <a:endParaRPr b="0" lang="en-US" sz="63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20680" y="3456000"/>
            <a:ext cx="3164040" cy="210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84720" y="3456000"/>
            <a:ext cx="3163680" cy="210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48400" y="3456000"/>
            <a:ext cx="3164040" cy="210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247320" y="272880"/>
            <a:ext cx="610920" cy="68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52360" cy="2400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0480"/>
            <a:ext cx="252360" cy="240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00600"/>
            <a:ext cx="252360" cy="2400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7280" y="6408720"/>
            <a:ext cx="9793440" cy="792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4000" y="1684800"/>
            <a:ext cx="9071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493560" indent="0" algn="ctr">
              <a:spcBef>
                <a:spcPts val="64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2" marL="987480" algn="ctr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3" marL="1481040" algn="ctr"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1900" spc="-1" strike="noStrike">
              <a:solidFill>
                <a:srgbClr val="000099"/>
              </a:solidFill>
              <a:latin typeface="Comic Sans MS"/>
            </a:endParaRPr>
          </a:p>
          <a:p>
            <a:pPr lvl="4" marL="1974960" algn="ctr">
              <a:spcBef>
                <a:spcPts val="275"/>
              </a:spcBef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5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6" marL="1974960"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6000" y="791640"/>
            <a:ext cx="9864720" cy="2233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600" spc="-1" strike="noStrike">
                <a:solidFill>
                  <a:srgbClr val="0066ff"/>
                </a:solidFill>
                <a:latin typeface="Comic Sans MS"/>
              </a:rPr>
              <a:t>Programme Hôpital</a:t>
            </a:r>
            <a:endParaRPr b="0" lang="en-US" sz="66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84000" y="4176360"/>
            <a:ext cx="7056360" cy="23209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6000" spc="-1" strike="noStrike">
                <a:solidFill>
                  <a:srgbClr val="000099"/>
                </a:solidFill>
                <a:latin typeface="Comic Sans MS"/>
              </a:rPr>
              <a:t>Réunion éditeurs du 11 juin 2008</a:t>
            </a:r>
            <a:endParaRPr b="0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793440" cy="468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16 certificats délivrés pour le JE 022003-B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22 certificats délivrés pour le JE 062005-A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550"/>
              </a:spcBef>
              <a:buClr>
                <a:srgbClr val="99ccff"/>
              </a:buClr>
              <a:buSzPct val="65000"/>
              <a:buFont typeface="Wingdings" charset="2"/>
              <a:buChar char="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omic Sans MS"/>
              </a:rPr>
              <a:t>L’ensemble des produits certifiés intègre la participation forfaitaire 1 euro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0">
              <a:spcBef>
                <a:spcPts val="275"/>
              </a:spcBef>
              <a:buNone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1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49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600" spc="-1" strike="noStrike">
                <a:solidFill>
                  <a:srgbClr val="0066ff"/>
                </a:solidFill>
                <a:latin typeface="Comic Sans MS"/>
              </a:rPr>
              <a:t>4 dossiers sont en cours </a:t>
            </a:r>
            <a:endParaRPr b="0" lang="en-US" sz="2600" spc="-1" strike="noStrike">
              <a:solidFill>
                <a:srgbClr val="0066ff"/>
              </a:solidFill>
              <a:latin typeface="Comic Sans MS"/>
            </a:endParaRPr>
          </a:p>
          <a:p>
            <a:pPr marL="369720" indent="0">
              <a:spcBef>
                <a:spcPts val="75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629E-774B-4620-89C1-B7502A2B49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6000" y="1512360"/>
            <a:ext cx="9864720" cy="49546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Évolution de la certificati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Mise à disposition sur le site du CNDA du JE B2 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700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06-2005-B opposable à partir du 1er juin 2008.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66ff"/>
                </a:solidFill>
                <a:latin typeface="Comic Sans MS"/>
              </a:rPr>
              <a:t>Décision en cours de signature</a:t>
            </a:r>
            <a:endParaRPr b="0" lang="en-US" sz="2800" spc="-1" strike="noStrike">
              <a:solidFill>
                <a:srgbClr val="0066ff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in de la certification des normes B2 2003 et B2 06-2005A au 31 août 2008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235160" indent="-247680"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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éditeurs qui ont déposé un dossier au CNDA avec le jeu d’essai dans ces 2 normes ont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Comic Sans MS"/>
              </a:rPr>
              <a:t>1 mois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our terminer la procédur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FA2E9-2BB1-4F3C-B2BF-C6D3B19C5C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5640" y="0"/>
            <a:ext cx="9072360" cy="982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4000" spc="-1" strike="noStrike">
                <a:solidFill>
                  <a:srgbClr val="0066ff"/>
                </a:solidFill>
                <a:latin typeface="Comic Sans MS"/>
              </a:rPr>
              <a:t>Point de situation sur la certification</a:t>
            </a:r>
            <a:endParaRPr b="0" lang="en-US" sz="40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482840"/>
            <a:ext cx="9072720" cy="49543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cédure de certification pour le JE 06-2005 B (à périmètre fonctionnel identique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69720" indent="0">
              <a:spcBef>
                <a:spcPts val="300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200" spc="-1" strike="noStrike">
              <a:solidFill>
                <a:srgbClr val="000099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Nouveau logiciel  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24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1000" spc="-1" strike="noStrike">
                <a:solidFill>
                  <a:srgbClr val="0066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2003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0">
              <a:spcBef>
                <a:spcPts val="601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  <a:p>
            <a:pPr lvl="1" marL="801720" indent="-30816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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Comic Sans MS"/>
              </a:rPr>
              <a:t>Logiciel déjà certifié B2 06-2005 A : 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différentielle</a:t>
            </a:r>
            <a:endParaRPr b="0" lang="en-US" sz="2400" spc="-1" strike="noStrike">
              <a:solidFill>
                <a:srgbClr val="0066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879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rocédure clas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9640" y="2664000"/>
            <a:ext cx="73080" cy="1152360"/>
          </a:xfrm>
          <a:custGeom>
            <a:avLst/>
            <a:gdLst>
              <a:gd name="textAreaLeft" fmla="*/ 0 w 73080"/>
              <a:gd name="textAreaRight" fmla="*/ 2628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6310-D5AB-4FBC-964E-0312E09CE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2:49Z</dcterms:created>
  <dc:creator>NOM Prenom</dc:creator>
  <dc:description/>
  <dc:language>en-US</dc:language>
  <cp:lastModifiedBy>OUSSAR Estelle</cp:lastModifiedBy>
  <dcterms:modified xsi:type="dcterms:W3CDTF">2008-06-10T10:12:55Z</dcterms:modified>
  <cp:revision>393</cp:revision>
  <dc:subject/>
  <dc:title>Facturation directe  des consultations exter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