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9590-725E-4ECC-844C-4219DA110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E098-05A4-41B5-9C19-7FB7EE642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18BD-CC2E-4B8B-A9E4-D2A2A3C56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1567-F6BB-4C44-985B-B25754F34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EA1A-DF58-4B65-A780-F20CCDCEB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5178-5BFF-4C29-A896-78C673C13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E126-C2D4-4EED-84B4-25E7B758F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8124-058F-4F73-BAD2-FD1F4425F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F2C4-7D7B-4A76-ADD0-D45F227D0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7468-CC5A-4F93-8C5D-4DAFE900E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EDFD-AC95-4102-85D7-2555E8F9A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C2CF-83A6-49DF-AE2B-9A1EDD3D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29D2523-50B2-44CA-94C7-5FEA82AD46C7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(1/2)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8000"/>
          </a:bodyPr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Rappel : les version 5.x des API de Lecture Vitale apportent les évolutions fonctionnelles suivantes :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Lecture des données v1 ter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fr-FR" sz="2200" spc="-1" strike="noStrike" u="sng">
                <a:solidFill>
                  <a:srgbClr val="0066ff"/>
                </a:solidFill>
                <a:uFillTx/>
                <a:latin typeface="Comic Sans MS"/>
              </a:rPr>
              <a:t>Réintroduction des dates de droits de base AMO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Existence d’un Médecin traitant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Modification de la gestion des dates de fin d'exonération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Remontée du numéro de série de la carte vitale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Prise en compte des vignettes bleues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Seul le libellé d'exonération du bénéficiaire est remonté </a:t>
            </a:r>
            <a:br>
              <a:rPr sz="2200"/>
            </a:br>
            <a:r>
              <a:rPr b="0" i="1" lang="fr-FR" sz="1900" spc="-1" strike="noStrike">
                <a:solidFill>
                  <a:srgbClr val="0066ff"/>
                </a:solidFill>
                <a:latin typeface="Comic Sans MS"/>
              </a:rPr>
              <a:t>(retrait du code libellé ETM ou du code couverture)</a:t>
            </a: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br>
              <a:rPr sz="2200"/>
            </a:b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a version 5 est une version majeure </a:t>
            </a:r>
            <a:br>
              <a:rPr sz="2200"/>
            </a:b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es versions 4.x sont obsolètes au 31 mai 2008 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Comic Sans MS"/>
              </a:rPr>
              <a:t>Le GIE SESAM-Vitale ne fournira plus de support technique sur ces versions au 30 juin 2008 </a:t>
            </a:r>
            <a:endParaRPr b="0" lang="en-US" sz="2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F548-ADB4-4E30-8F3E-35D86D000D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400" spc="-1" strike="noStrike">
                <a:solidFill>
                  <a:srgbClr val="0066ff"/>
                </a:solidFill>
                <a:latin typeface="Comic Sans MS"/>
              </a:rPr>
              <a:t>(2/2)</a:t>
            </a: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1000908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version 5.00 a été diffusée le 27/04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dernière version (v5.02) est disponible depuis le 26/11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Intégration des API v5.x par les éditeurs </a:t>
            </a:r>
            <a:br>
              <a:rPr sz="2800"/>
            </a:br>
            <a:r>
              <a:rPr b="0" i="1" lang="fr-FR" sz="2400" spc="-1" strike="noStrike">
                <a:solidFill>
                  <a:srgbClr val="000099"/>
                </a:solidFill>
                <a:latin typeface="Comic Sans MS"/>
              </a:rPr>
              <a:t>(situation au 2/6/2008)</a:t>
            </a: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2 édi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6 produits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13 éditeurs ont téléchargé la version 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 éditeurs ont effectué les tests CNDA en v5.01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 éditeurs ont effectué les tests CNDA en v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C043-705C-4497-84E6-64F3CECCC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6:56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