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717F-6AE7-4622-876D-2DCBCE254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FE55-2F0C-4762-943E-8EA4B53FC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3B55-7F31-479E-8075-0E9483190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2751-D6A8-4E1B-9E5B-AC0F66559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9347-A6A9-441C-8523-106AB5B64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4506-6681-47BA-B287-21BF1D8D9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A561-6CA0-4F04-B60D-1EC25B25D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67BB-E2DA-483C-8A74-8DC7EDCA0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3EAE-0BDA-45EA-B607-60DA4B1EB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36AF-A2D6-428B-A002-D1A14F194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23D5-B3B6-4BFC-9EB0-EC1B08A9B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60F7-E904-47A0-AD3A-0DB8F19DE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23BB580-4BDF-4051-9546-8ACC3F0E31E0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640" y="215640"/>
            <a:ext cx="907236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3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Démarrage des échange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4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516 établissements ont démarré les tests avec les caisses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344 établissements ont fini les tests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317 établissements ont fait le PV de phase 3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21 établissements ont fini la phase 4 et donc démarré en réel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4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06C7-A7F4-4079-AB4F-E0F9B34144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5640" y="215640"/>
            <a:ext cx="907236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3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7280" y="1224000"/>
            <a:ext cx="9793440" cy="1123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lanning de bascule retour SMTP des retours NOEM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01880" y="1965240"/>
          <a:ext cx="7991280" cy="4488120"/>
        </p:xfrm>
        <a:graphic>
          <a:graphicData uri="http://schemas.openxmlformats.org/drawingml/2006/table">
            <a:tbl>
              <a:tblPr/>
              <a:tblGrid>
                <a:gridCol w="1649160"/>
                <a:gridCol w="3703680"/>
                <a:gridCol w="263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ouloirs (CNAM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Numéros des départements concern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Date de basc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1-07-26-42-69-74-38-03-63-43-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8/05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ES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7-91-93-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2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R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5-78-92-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2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9-12-31-32-46-65-81-82-24-33-40-47-64-11-30-34-48-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Guadeloupe-Martinique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éunion-Mayotte-Guy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9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AC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A-2B-04 05-06-13-83-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6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P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2-29-35-56-44 49-53-72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3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ED7A-D58D-474A-BDF2-5C7745A0BF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Flux 1 euro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Plus de 37 millions de factures reçue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355 établissements émetteur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’ensemble des CTI a reçu des flux.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Action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Poursuivre envoi des stocks 2005, 2006, 2007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Envoi des flux 2008.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4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BBEF-3528-4456-BFE8-36EB4A491A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Flux 1 euro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16680" y="1482840"/>
          <a:ext cx="4460760" cy="4953960"/>
        </p:xfrm>
        <a:graphic>
          <a:graphicData uri="http://schemas.openxmlformats.org/drawingml/2006/table">
            <a:tbl>
              <a:tblPr/>
              <a:tblGrid>
                <a:gridCol w="4460760"/>
              </a:tblGrid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. SPECIALITE EXEC. /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ATIBILITE ASU-NAT / REG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TM CONNUE BDO NON TRANS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DENTIFICATION PRESTATION OBLIG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ASSURE ABSENT DE LA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TM NON TROUVEE EN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NATURE DE PRESTATION ERRON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ASSURE NON GERE PAR LA CAI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BENEFICIAIRE INCONNU DANS LA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. NAT. PREST. SPE.EXECU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3280" y="1512720"/>
          <a:ext cx="4459320" cy="2646360"/>
        </p:xfrm>
        <a:graphic>
          <a:graphicData uri="http://schemas.openxmlformats.org/drawingml/2006/table">
            <a:tbl>
              <a:tblPr/>
              <a:tblGrid>
                <a:gridCol w="4459320"/>
              </a:tblGrid>
              <a:tr h="265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Les principaux motifs de rejets dans l’ordre décroissant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chantillon 309 établissement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11 millions de factu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48F2-4F6B-4B93-A26E-0872BBBDCF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MEDIA CENTER</cp:lastModifiedBy>
  <dcterms:modified xsi:type="dcterms:W3CDTF">2008-06-10T19:39:09Z</dcterms:modified>
  <cp:revision>394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